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D6E2-BFC8-4E4A-985E-C97543184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65BF-7176-49C9-98FE-C4C2FFA2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F82F-E35D-4027-BDFC-B62F08CE7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DD12-94DB-43E1-A8E2-FA6E87845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8972-F65C-43A9-B066-27C9CBF7C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521B-8445-4236-A388-E6124308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4BE8-1B1C-4B3A-B0CE-4181EE8C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595D-C95B-4EC5-B1DF-32F86675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7901-78CB-4B37-98D9-82058CE0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35120" y="260280"/>
            <a:ext cx="82296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8529-1510-4A97-AA9C-BDE84C10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EC99-D82E-4047-87F5-284FEB1F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88B3-480A-4578-AB42-14D552D5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B7DF9-D9C4-489D-8305-BC9D03E9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B8BE-29A7-43B3-ACBA-310A0C18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F066-E3A7-4143-B03F-2E5816FA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AD4A-B5F6-4B01-B232-B59CEF89E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B6147-FE32-444B-A1BB-B8EC101CF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9821-4E6A-4C88-85A0-40372490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493F-CDC0-4755-88E6-33A8CC07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0E95-3431-4BC8-87F0-20AFD019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35120" y="260280"/>
            <a:ext cx="82296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258F-675C-4454-987D-FACE0B29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CDF1-F24B-4FB0-B70E-8B823BC9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4F0D-7855-417C-A2C4-0077436B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951E-BE8D-4F59-A370-6601FBC9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25440">
              <a:spcBef>
                <a:spcPts val="601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51000" indent="-351000">
              <a:spcBef>
                <a:spcPts val="601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927080" indent="-31572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446200" indent="-33948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446200" indent="-3394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446200" indent="-3394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erbalizzazione esami: proposta processo dematerializzato</a:t>
            </a: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-  </a:t>
            </a:r>
            <a:fld id="{DB3D1DBA-28E3-4470-A1B7-BFC09A999059}" type="slidenum">
              <a:rPr b="0" lang="it-I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68360" y="6165720"/>
            <a:ext cx="8229600" cy="0"/>
          </a:xfrm>
          <a:prstGeom prst="line">
            <a:avLst/>
          </a:prstGeom>
          <a:ln w="1908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882440"/>
            <a:ext cx="76230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82A6-EB46-4DEC-9663-393A78562F41}" type="slidenum">
              <a:rPr b="0" lang="it-I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219320"/>
            <a:ext cx="7923240" cy="24969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5289480"/>
            <a:ext cx="4352760" cy="0"/>
          </a:xfrm>
          <a:prstGeom prst="line">
            <a:avLst/>
          </a:prstGeom>
          <a:ln w="1908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11280" y="3849840"/>
            <a:ext cx="3009960" cy="1666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452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71400" indent="228600" algn="ctr">
              <a:spcBef>
                <a:spcPts val="451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58752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indent="765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 indent="765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 indent="765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804996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  <a:ea typeface="Verdana"/>
              </a:rPr>
              <a:t>Napoli – 12 novembre 2010 </a:t>
            </a:r>
            <a:br>
              <a:rPr sz="1800"/>
            </a:br>
            <a:r>
              <a:rPr b="1" lang="it-IT" sz="2000" spc="-1" strike="noStrike">
                <a:solidFill>
                  <a:srgbClr val="000000"/>
                </a:solidFill>
                <a:latin typeface="Verdana"/>
                <a:ea typeface="Verdana"/>
              </a:rPr>
              <a:t>WORKSHOP ICT4UNIVERSITY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Verdana"/>
              </a:rPr>
              <a:t>Università Federico II, Complesso San Marcellino e Festo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068720" y="4221000"/>
            <a:ext cx="4896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lessandro Bogliol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Università di Urbi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lessandro.bogliolo@uniurb.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635280" y="2693880"/>
            <a:ext cx="2392560" cy="12207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55640" y="1474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petti normativi delle reti 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 della comunicazione digit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ollaborazione con AGCOM e FUB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28120" y="1196640"/>
            <a:ext cx="78598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GCOM e FUB hanno siglato un accordo triennale per studi e ricerche nel settore Reti, Editoria, Television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GCO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è innanzitutto un’autorità di garanzia con il duplice compito di assicurare la competizione degli operatori e di tutelare  … libertà fondamentali dei cittadini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 Fondazione Ugo Bordoni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UB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, sottoposta alla vigilanza del Ministero dello Sviluppo Economico, realizza ricerche, studi scientifici e applicativi nelle materie delle comunicazioni elettroniche … al fine di promuovere il progresso scientifico e l'innovazione tecnologica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propone di offrire ad AGCOM e FUB la disponibilità del tavolo tecnico a discutere temi di loro interesse, eventualmente elaborando pareri e propos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Motivazione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7859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fficoltà interpretative della normativa vigente rallentano l’introduzione di ICT in Atene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singoli atenei difficilmente hanno la massa critica e la motivazione per risolvere i problemi interpretativ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l tavolo tecnico ha le caratteristiche giuste per provare a dirimere alcune questioni di interesse del sistema universitario in virtù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della massa crit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della legittimazione ricevuta da DDI e MI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4597560" y="6165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Modus operandi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7859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artire da casi d’uso concreti che evidenzino il problema interpretati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nalizzare la normativa con l’aiuto di giuris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Redigere linee guida che rappresentino soluzioni adeguate applicate al caso d’u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hiedere il conforto delle autorità competenti sulla legittimità delle soluzioni propos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pprovare e pubblicare le linee gui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dottare e implementazione pilota delle linee gui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Favorire il riuso delle esperienze pilo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4597560" y="6165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Temi affrontati:</a:t>
            </a:r>
            <a:br>
              <a:rPr sz="2800"/>
            </a:b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Verbalizzazione online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199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n si forniscono dettagli poiché il tema sarà trattato in un apposito interven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sottolinea ch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spcBef>
                <a:spcPts val="1001"/>
              </a:spcBef>
              <a:buClr>
                <a:srgbClr val="e36928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 tema è stato affrontato da un apposito gruppo di lavoro prima della costituzione formale del gruppo di lavoro sugli aspetti normativ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spcBef>
                <a:spcPts val="1001"/>
              </a:spcBef>
              <a:buClr>
                <a:srgbClr val="e36928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 modus operandi adottato dal tavolo tecnico e il successo nella definizione di linee guida pragmatiche per la verbalizzazione online hanno creato i presupposti per la costituzione di un gruppo di lavoro sugli aspetti normativi trasversale ai gruppi tematic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3865680" y="6165720"/>
            <a:ext cx="49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rere favorevole espresso da DigitPA e MI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Temi affrontati:</a:t>
            </a:r>
            <a:br>
              <a:rPr sz="2800"/>
            </a:b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VoIP nomadico e servizi agli studenti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Caso d’uso: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'utente, dotato di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terminale VoIP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collegato su rete IP al centralino dell'istituzione di appartenenza, si presenta sulla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rete telefonica general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(PSTN) con un numero di telefono del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piano di numerazione nazional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(PNN) assegnato all'istituzione di appartenenz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lnSpc>
                <a:spcPct val="90000"/>
              </a:lnSpc>
              <a:spcBef>
                <a:spcPts val="1001"/>
              </a:spcBef>
              <a:buClr>
                <a:srgbClr val="e36928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Uso nomadico di numeri fiss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lnSpc>
                <a:spcPct val="90000"/>
              </a:lnSpc>
              <a:spcBef>
                <a:spcPts val="1001"/>
              </a:spcBef>
              <a:buClr>
                <a:srgbClr val="e36928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Localizzazione delle chiam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lnSpc>
                <a:spcPct val="90000"/>
              </a:lnSpc>
              <a:spcBef>
                <a:spcPts val="1001"/>
              </a:spcBef>
              <a:buClr>
                <a:srgbClr val="e36928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ervizi VoIP agli studen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llegato alle linee guida sul VoIP che saranno oggetto di uno specifico interv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4601160" y="616572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re favorevole espresso da AG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35120" y="259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Temi affrontati:</a:t>
            </a:r>
            <a:br>
              <a:rPr sz="2800"/>
            </a:b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Autenticazione federata </a:t>
            </a:r>
            <a:br>
              <a:rPr sz="2800"/>
            </a:b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per l’accesso ad Internet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Caso d’us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: L'utente, registrato presso un soggetto, detto “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Organizzazione di appartenenz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” (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Od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), che gli ha fornito un’identità digitale e le relative credenziali (username e password, o certificato)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tilizza le credenziali fornite dall’OdA per accedere ad Internet attraverso le risorse di rete di un secondo soggetto, detto “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Fornitore di servizi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” (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FdS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Non si forniscono dettagli poiché il tema sarà trattato in un apposito interv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1258920" y="6172200"/>
            <a:ext cx="76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re favorevole espresso da Polizia Postale - Ministero dell’Int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3512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Temi sul tavolo:</a:t>
            </a:r>
            <a:br>
              <a:rPr sz="2800"/>
            </a:b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Web services per l’accesso ad ANS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28120" y="1413000"/>
            <a:ext cx="78598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ggett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Modello di cooperazione applicativa tra Università e ANS  finalizzato a semplificare il conferimento di dati all’ANS da parte delle Università e fornire supporto alla mobilità nazionale degli studenti universitar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spcBef>
                <a:spcPts val="1001"/>
              </a:spcBef>
              <a:buClr>
                <a:srgbClr val="e369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smissione  all’ANS dei dati di carrier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spcBef>
                <a:spcPts val="1001"/>
              </a:spcBef>
              <a:buClr>
                <a:srgbClr val="e369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rifica di errori sintattici e semantici nei dati e di anomalie di trasmission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spcBef>
                <a:spcPts val="1001"/>
              </a:spcBef>
              <a:buClr>
                <a:srgbClr val="e369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rifica delle prime immatricolazioni nel sistema universitario italian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spcBef>
                <a:spcPts val="1001"/>
              </a:spcBef>
              <a:buClr>
                <a:srgbClr val="e369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rifica dello stato della carriera degli student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2340000" y="617220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ito predisposto da DDI e MIUR per garante Priv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Temi sul tavolo:</a:t>
            </a:r>
            <a:br>
              <a:rPr sz="2800"/>
            </a:b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GSM BOX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28120" y="1197000"/>
            <a:ext cx="78598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ffettuare internamente un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passaggio fisso-mobil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per poter usufruire delle tariffe più vantaggiose mobile-mobile per mettere in comunicazione i telefoni di rete fissa dell’Ateneo con i cellular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lnSpc>
                <a:spcPct val="90000"/>
              </a:lnSpc>
              <a:spcBef>
                <a:spcPts val="1001"/>
              </a:spcBef>
              <a:buClr>
                <a:srgbClr val="e36928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sempio (UniFE): 8c€ fisso-mobile, 3.5c€ mobile-mobile, con 70% di traffico verso cellulare il risparmio sulla spesa telefonica complessiva sarebbe del 4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a normativa non sembra vietare l’uso di GSM-BOX, ma gli operatori non lo ammetton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Il tavolo tecnico assumerà una posizione collegiale da sottoporre alle autorità competent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2340000" y="617220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perienze di Milano Bicocca (Ministeri) e UniFE (Coreco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Temi sul tavolo:</a:t>
            </a:r>
            <a:br>
              <a:rPr sz="2800"/>
            </a:b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Interconnessione tra reti private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28120" y="1267920"/>
            <a:ext cx="7859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e reti degli atenei sono reti “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” soggette a limitazioni di uso e di interconnessione imposte dal codice delle comunicazion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lnSpc>
                <a:spcPct val="90000"/>
              </a:lnSpc>
              <a:spcBef>
                <a:spcPts val="1001"/>
              </a:spcBef>
              <a:buClr>
                <a:srgbClr val="e36928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sempio: accordi tra Atenei e Pubbliche amministrazioni per la copertura Wi-Fi di zone metropolitane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emi correlati: misure anti digital divide, NREN, aiuti di sta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Il tavolo tecnico intende chiarire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(con ‘eventuale aiuto di AGCOM)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 i limiti e le opportunità di utilizzo ed interconnessione delle reti degli Atene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61722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te di Urbino - Interpretazioni dell’Ispettorato dell’Emilia Romag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1:19:12Z</dcterms:created>
  <dc:creator>Cesare</dc:creator>
  <dc:description/>
  <dc:language>en-US</dc:language>
  <cp:lastModifiedBy>xxx</cp:lastModifiedBy>
  <dcterms:modified xsi:type="dcterms:W3CDTF">2010-11-12T07:55:25Z</dcterms:modified>
  <cp:revision>39</cp:revision>
  <dc:subject/>
  <dc:title>La verbalizzazione degli esami:  proposta di processo dematerializzato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